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98A-62FD-4E98-92D5-48331EC6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3AA-477B-4E31-B1E4-9596F99F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3F3-555D-4DEA-9AF2-A6F8212E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710-564A-40D3-8CEF-9A0E1635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5358-11F7-447D-BE41-93EB7FF8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CB4A-6C80-460D-A543-A21EBBB9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5AC3-499C-41DA-B28F-55E93633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2EDD-1AB2-4B33-BA3D-9D4322C3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CB39-3A88-456D-B88C-7B456D73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29DE-B8D5-4775-A7D1-6D27FF12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FA01-21D8-4308-8375-5561D638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4F5-0623-4626-8D4E-B0F77787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25B6-CD33-4A75-BBBE-CB80AEDA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604A-F0D4-4842-AC5F-68593E92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B549-4725-4886-AEAC-F9A761CF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F80F-38CE-48C5-A8EB-7ABD25D5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B29F-0ED1-40D4-9861-389C9034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FD2-8E05-45FE-A069-0FF87754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06D-5122-4701-A63E-AFE3FF72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147F-5AD6-4706-95A4-0616572D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A3A-1F65-4AA4-AA99-90F46DBC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3E9-59AC-439E-9A2F-42FE50F1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89B-3650-40FA-B29B-2B895F91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F6A-4EBA-4099-82FE-BFA4F6CF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1E0B-F2C4-4035-8906-A9EDF4544471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2A9F-40B3-4D3F-861E-7DEEBD7135BE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ctor Campos, Presiden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ptions Software Consulting</a:t>
            </a:r>
            <a:br>
              <a:rPr sz="4000"/>
            </a:b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ttp://www.options-sc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The Business Object Specialis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nefits of using Business Objec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l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commended Read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L Distilled by Martin Fow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ML Language User Guide by Booch, Jacobson and Rumbau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bject-Oriented Thought Process by Matt Weisfe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 Patterns by Gamma, Helm, Johnson and Vlis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commended Websit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intelligententerprise.com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objectsbydesign.com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hillside.net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joopmag.com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ustry Backgrou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xPro and Visual FoxP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B and VBScript (AS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QL Server 6.5/7.0/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B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ySQ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us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ty frame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have built your own framewor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are using Business Object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udience Surve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a Business Objec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Object’s Conceptual Meta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ing an effective business object in Visual FoxP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efits of using Business Ob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lot’s more if time all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usiness Objec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iacomdev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2384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a Business Objec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usiness object is the software implementation of an autonomous business concept or business process.  It consists of all the software artifacts necessary to represent, implement, and deploy a given business concept as an autonomous, reusable element of a larger distributed information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usiness Object’s Conceptual Meta-Mod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BizObjMetaModel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629400" cy="3878280"/>
          </a:xfrm>
          <a:prstGeom prst="rect">
            <a:avLst/>
          </a:prstGeom>
          <a:ln w="0">
            <a:noFill/>
          </a:ln>
        </p:spPr>
      </p:pic>
      <p:pic>
        <p:nvPicPr>
          <p:cNvPr id="133" name="TABLE" descr=""/>
          <p:cNvPicPr/>
          <p:nvPr/>
        </p:nvPicPr>
        <p:blipFill>
          <a:blip r:embed="rId2"/>
          <a:stretch/>
        </p:blipFill>
        <p:spPr>
          <a:xfrm>
            <a:off x="4952880" y="4343400"/>
            <a:ext cx="169560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llustrating the Façade Patter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New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59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uilding an effective Business Objec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able and Maintai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bu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d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us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apsulates Behav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FP’s Data Environ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the built-in data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performance while loading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-Thread functionality is built-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7:46:51Z</dcterms:created>
  <dc:creator>Victor Campos</dc:creator>
  <dc:description/>
  <dc:language>en-US</dc:language>
  <cp:lastModifiedBy>Victor Campos</cp:lastModifiedBy>
  <dcterms:modified xsi:type="dcterms:W3CDTF">2002-01-08T06:05:59Z</dcterms:modified>
  <cp:revision>36</cp:revision>
  <dc:subject/>
  <dc:title>Victor Campos, President Options Software Consulting http://www.options-sc.com</dc:title>
</cp:coreProperties>
</file>